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D6D3DC6-B46F-43B3-B3B1-0B4C1F62BCC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outer team is hoping to achie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 &amp; information is going back to the coac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ion of what is happen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ant to improve student 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 to different learning styles in T &amp;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along this journey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eachers in SMR  this is their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27200"/>
            <a:ext cx="4833720" cy="3625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9080" y="4594320"/>
            <a:ext cx="5050080" cy="435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used a range of models to underpin everything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way to ensure that goals are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focusing on these thre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ve been to 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that high implementation of changed teaching practice through co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ve process where all teach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where teacher and build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to schools A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e develops their foc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&amp; Learning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ng &amp; un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2040" y="5749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9311"/>
          <a:stretch/>
        </p:blipFill>
        <p:spPr>
          <a:xfrm>
            <a:off x="3203640" y="836640"/>
            <a:ext cx="2984400" cy="561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4292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Don’t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003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2860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have to think about it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04000" y="206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Using a skill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having to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413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Successful but can’t explain to others what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960" y="476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ordon’s Skill Development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907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Tal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04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9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61944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8434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3908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2971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747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634920" y="5084640"/>
            <a:ext cx="57636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563640" y="3141720"/>
            <a:ext cx="57636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3860640"/>
            <a:ext cx="5032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92720" y="1916280"/>
            <a:ext cx="503280" cy="72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2205000"/>
            <a:ext cx="358920" cy="7192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991600">
            <a:off x="2410920" y="2421000"/>
            <a:ext cx="3456000" cy="358560"/>
          </a:xfrm>
          <a:prstGeom prst="rightArrow">
            <a:avLst>
              <a:gd name="adj1" fmla="val 50000"/>
              <a:gd name="adj2" fmla="val 24096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17080" y="122400"/>
            <a:ext cx="7236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80" y="765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Verdana"/>
                <a:ea typeface="Arial"/>
              </a:rPr>
              <a:t>Outcomes of a Successful Coach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55640" y="2133720"/>
            <a:ext cx="5048280" cy="1511280"/>
            <a:chOff x="755640" y="2133720"/>
            <a:chExt cx="5048280" cy="1511280"/>
          </a:xfrm>
        </p:grpSpPr>
        <p:sp>
          <p:nvSpPr>
            <p:cNvPr id="122" name=""/>
            <p:cNvSpPr/>
            <p:nvPr/>
          </p:nvSpPr>
          <p:spPr>
            <a:xfrm>
              <a:off x="3138480" y="2783160"/>
              <a:ext cx="26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cc"/>
                  </a:solidFill>
                  <a:latin typeface="Comic Sans MS"/>
                  <a:ea typeface="Arial"/>
                </a:rPr>
                <a:t>Op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12765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916360" y="1484280"/>
            <a:ext cx="5040360" cy="1914840"/>
            <a:chOff x="2916360" y="1484280"/>
            <a:chExt cx="5040360" cy="1914840"/>
          </a:xfrm>
        </p:grpSpPr>
        <p:sp>
          <p:nvSpPr>
            <p:cNvPr id="125" name=""/>
            <p:cNvSpPr/>
            <p:nvPr/>
          </p:nvSpPr>
          <p:spPr>
            <a:xfrm>
              <a:off x="2916360" y="1842840"/>
              <a:ext cx="3240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cc"/>
                  </a:solidFill>
                  <a:latin typeface="Curlz MT"/>
                  <a:ea typeface="Arial"/>
                </a:rPr>
                <a:t>Celebration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732720" y="1484280"/>
              <a:ext cx="1224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2195640" y="3429000"/>
            <a:ext cx="6192720" cy="1004760"/>
            <a:chOff x="2195640" y="3429000"/>
            <a:chExt cx="6192720" cy="1004760"/>
          </a:xfrm>
        </p:grpSpPr>
        <p:sp>
          <p:nvSpPr>
            <p:cNvPr id="128" name=""/>
            <p:cNvSpPr/>
            <p:nvPr/>
          </p:nvSpPr>
          <p:spPr>
            <a:xfrm>
              <a:off x="2195640" y="3573360"/>
              <a:ext cx="48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66cc"/>
                  </a:solidFill>
                  <a:latin typeface="Franklin Gothic Demi"/>
                  <a:ea typeface="Arial"/>
                </a:rPr>
                <a:t>Conscious practi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7307280" y="3429000"/>
              <a:ext cx="10810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684360" y="4653000"/>
            <a:ext cx="7057800" cy="728640"/>
            <a:chOff x="684360" y="4653000"/>
            <a:chExt cx="7057800" cy="728640"/>
          </a:xfrm>
        </p:grpSpPr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684360" y="4653000"/>
              <a:ext cx="100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981080" y="4653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cc"/>
                  </a:solidFill>
                  <a:latin typeface="Arial"/>
                  <a:ea typeface="Arial"/>
                </a:rPr>
                <a:t>Effective professional lear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2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If you want to feel secure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o what you already know how to do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ut if you want to grow..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Go to the cutting edge of your competence, which means a temporary loss of security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, whenever you don't quite know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What you are doing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Know that you are grow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2160" indent="0">
              <a:spcBef>
                <a:spcPts val="1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scott, D: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Risking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Pocket Publishing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5120" y="2800440"/>
            <a:ext cx="43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19040"/>
            <a:ext cx="64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33cc"/>
                </a:solidFill>
                <a:latin typeface="Verdana"/>
                <a:ea typeface="Arial"/>
              </a:rPr>
              <a:t>SMR Coaching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42960" y="1197000"/>
            <a:ext cx="6224760" cy="4392720"/>
            <a:chOff x="1542960" y="1197000"/>
            <a:chExt cx="6224760" cy="4392720"/>
          </a:xfrm>
        </p:grpSpPr>
        <p:sp>
          <p:nvSpPr>
            <p:cNvPr id="137" name=""/>
            <p:cNvSpPr txBox="1"/>
            <p:nvPr/>
          </p:nvSpPr>
          <p:spPr>
            <a:xfrm>
              <a:off x="2268360" y="1197000"/>
              <a:ext cx="499284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Building the Relationship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2349360"/>
              <a:ext cx="19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Forward an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2349360"/>
              <a:ext cx="1425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Back and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24360" y="4365720"/>
              <a:ext cx="118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Action “COG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626920" y="1628640"/>
              <a:ext cx="4177080" cy="720720"/>
              <a:chOff x="2626920" y="1628640"/>
              <a:chExt cx="4177080" cy="720720"/>
            </a:xfrm>
          </p:grpSpPr>
          <p:sp>
            <p:nvSpPr>
              <p:cNvPr id="142" name=""/>
              <p:cNvSpPr/>
              <p:nvPr/>
            </p:nvSpPr>
            <p:spPr>
              <a:xfrm>
                <a:off x="2905560" y="1628640"/>
                <a:ext cx="3898440" cy="629280"/>
              </a:xfrm>
              <a:custGeom>
                <a:avLst/>
                <a:gdLst>
                  <a:gd name="textAreaLeft" fmla="*/ 682200 w 3898440"/>
                  <a:gd name="textAreaRight" fmla="*/ 2826360 w 3898440"/>
                  <a:gd name="textAreaTop" fmla="*/ 84240 h 629280"/>
                  <a:gd name="textAreaBottom" fmla="*/ 545040 h 62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66240" y="2078280"/>
                <a:ext cx="9745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0800000">
                <a:off x="2626920" y="20779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0800000">
                <a:off x="5177520" y="20617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42960" y="2813040"/>
              <a:ext cx="2509920" cy="2557440"/>
              <a:chOff x="1542960" y="2813040"/>
              <a:chExt cx="2509920" cy="2557440"/>
            </a:xfrm>
          </p:grpSpPr>
          <p:sp>
            <p:nvSpPr>
              <p:cNvPr id="147" name=""/>
              <p:cNvSpPr/>
              <p:nvPr/>
            </p:nvSpPr>
            <p:spPr>
              <a:xfrm rot="13837200">
                <a:off x="1368360" y="369108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837200">
                <a:off x="3319200" y="454212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037200">
                <a:off x="3107520" y="448848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3037200">
                <a:off x="1991520" y="316080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969080" y="2847240"/>
              <a:ext cx="2385360" cy="2709000"/>
              <a:chOff x="4969080" y="2847240"/>
              <a:chExt cx="2385360" cy="2709000"/>
            </a:xfrm>
          </p:grpSpPr>
          <p:sp>
            <p:nvSpPr>
              <p:cNvPr id="152" name=""/>
              <p:cNvSpPr/>
              <p:nvPr/>
            </p:nvSpPr>
            <p:spPr>
              <a:xfrm rot="7959600">
                <a:off x="4836240" y="390924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959600">
                <a:off x="6314400" y="310356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8759600">
                <a:off x="6100920" y="315720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8759600">
                <a:off x="4941000" y="444636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2124000" y="4437000"/>
              <a:ext cx="499284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Embedding New Practice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2781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Improved Teache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MIGHT THE COACHEE’S  FOCUS FOR COACHING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916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Teacher Actions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30193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udent Action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41241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esson Characteri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522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056240"/>
            <a:ext cx="4895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Here is Edward Bear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Coming downstairs now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mp, bump, bump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On the back of his hea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ehind Christopher Rob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t is, as far as he know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e only way of coming downstair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t sometimes he fe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at there really is another way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f only he could stop bumping for a mo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And think of it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580000" y="2421000"/>
          <a:ext cx="3311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421000"/>
                    <a:ext cx="3311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76720" y="2665440"/>
            <a:ext cx="1595160" cy="1630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Effective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44720" y="936720"/>
            <a:ext cx="5978160" cy="5238360"/>
            <a:chOff x="1044720" y="936720"/>
            <a:chExt cx="5978160" cy="5238360"/>
          </a:xfrm>
        </p:grpSpPr>
        <p:sp>
          <p:nvSpPr>
            <p:cNvPr id="64" name=""/>
            <p:cNvSpPr/>
            <p:nvPr/>
          </p:nvSpPr>
          <p:spPr>
            <a:xfrm>
              <a:off x="3223440" y="93672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1. Professional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70640" y="220464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23440" y="496080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5. High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xpectations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of all lear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770640" y="441288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7168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2. Focus on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 &amp;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000000">
              <a:off x="4583880" y="257472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4720" y="2933640"/>
              <a:ext cx="158328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7. Learning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Commun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2689200" y="328572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39960" y="2935440"/>
              <a:ext cx="158292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3. Purposeful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4860720" y="328608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3864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4. Shared Vision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 &amp; 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8100000">
              <a:off x="4609800" y="404064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3800000">
              <a:off x="2913480" y="401328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968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6. Account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484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8. Stimulat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and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cure learn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900000">
              <a:off x="2959920" y="256896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24000" y="982800"/>
            <a:ext cx="7127640" cy="5398920"/>
          </a:xfrm>
          <a:custGeom>
            <a:avLst/>
            <a:gdLst/>
            <a:ahLst/>
            <a:rect l="l" t="t" r="r" b="b"/>
            <a:pathLst>
              <a:path w="6056" h="4544">
                <a:moveTo>
                  <a:pt x="718" y="575"/>
                </a:moveTo>
                <a:cubicBezTo>
                  <a:pt x="952" y="0"/>
                  <a:pt x="1603" y="45"/>
                  <a:pt x="1943" y="393"/>
                </a:cubicBezTo>
                <a:cubicBezTo>
                  <a:pt x="2283" y="741"/>
                  <a:pt x="2222" y="2245"/>
                  <a:pt x="2759" y="2661"/>
                </a:cubicBezTo>
                <a:cubicBezTo>
                  <a:pt x="3296" y="3077"/>
                  <a:pt x="4649" y="2714"/>
                  <a:pt x="5163" y="2888"/>
                </a:cubicBezTo>
                <a:cubicBezTo>
                  <a:pt x="5677" y="3062"/>
                  <a:pt x="6056" y="3432"/>
                  <a:pt x="5844" y="3704"/>
                </a:cubicBezTo>
                <a:cubicBezTo>
                  <a:pt x="5632" y="3976"/>
                  <a:pt x="4778" y="4498"/>
                  <a:pt x="3893" y="4521"/>
                </a:cubicBezTo>
                <a:cubicBezTo>
                  <a:pt x="3008" y="4544"/>
                  <a:pt x="1074" y="4499"/>
                  <a:pt x="537" y="3841"/>
                </a:cubicBezTo>
                <a:cubicBezTo>
                  <a:pt x="0" y="3183"/>
                  <a:pt x="484" y="1150"/>
                  <a:pt x="718" y="575"/>
                </a:cubicBezTo>
                <a:close/>
              </a:path>
            </a:pathLst>
          </a:custGeom>
          <a:solidFill>
            <a:srgbClr val="80008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5800" y="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Sel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41972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 and promoting the exchange of ideas through collaborative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ing profession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couraging teachers to reflect deeply about their work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ding to the school’s Annual Implementation Plan and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Department of Education - Victoria</cp:lastModifiedBy>
  <dcterms:modified xsi:type="dcterms:W3CDTF">2008-02-22T03:04:19Z</dcterms:modified>
  <cp:revision>43</cp:revision>
  <dc:subject/>
  <dc:title>Slide 1</dc:title>
</cp:coreProperties>
</file>